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8EB-045D-47B2-96B1-DE68ED6E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4F6-E703-4CB5-8559-8EC096A3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E8C-E17A-48C1-9F62-79991EDD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6C22-1C61-4310-BB93-336A4BDE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2CD9-5403-481F-A8D8-239DC6B0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A4ED-BC93-4866-96E6-2BA4A7E6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7BD3-42A4-431D-9F5A-B4B27CC6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A4B3-9727-48AE-8C6B-BED13C8D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25AF-D710-45A0-BD07-30DFDDDC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284C-E1B7-4609-A16D-CE9812C1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5D12-314C-41AF-8A1C-C150EB90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3F3D-CD2E-442B-84DF-8C69E1BE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6999-4534-4CF7-8669-81EFB792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814A-1138-4EF9-81BB-DD22C0EB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9D4C-F47A-43FA-9B18-BD59128C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F5AE-3ED4-4F7F-8D9C-732610DD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5DA4-78C5-4FA6-A717-A9AFC7B1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440-D79A-4836-9CB3-4B29571E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4E7-E805-419C-9EE1-EFC4D8A5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E38-5FF8-4EBF-8903-D6983D2B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F76-E018-4107-AA38-05D6902A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92C-E1ED-4F2E-B5B9-4F439143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5FA-6E06-433A-A276-B88412C7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E0A-A1B3-4561-8C78-F5E00495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974F-0F51-468E-8CAD-D47E66AA84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82DF-D05D-4335-9D57-2D709A07F3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ecff"/>
                </a:solidFill>
                <a:latin typeface="Times New Roman"/>
              </a:rPr>
              <a:t>PRIMENA EPIDEMIOLOŠKE STATISTIKE U ISTRAŽIVANJU EPIDEMI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Prema kriterijumima Svetske zdravstvene organizacije (SZO) za kategorizaciju, stopa smrtnosti odojčadi utvrđuje s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66"/>
                </a:solidFill>
                <a:latin typeface="Times New Roman"/>
              </a:rPr>
              <a:t>vrlo visoka smrtnost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– 30 i više umrli odojčadi na 1000 živorođene de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66"/>
                </a:solidFill>
                <a:latin typeface="Times New Roman"/>
              </a:rPr>
              <a:t>visoka smrtnost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25-29 na 1000 na 1000 živorođene de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66"/>
                </a:solidFill>
                <a:latin typeface="Times New Roman"/>
              </a:rPr>
              <a:t>srednja smrtnost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20-24 odojčadi na 1000 živorođene de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66"/>
                </a:solidFill>
                <a:latin typeface="Times New Roman"/>
              </a:rPr>
              <a:t>niska smrtnost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18-19 odojčadi na 1000 živorođene de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66"/>
                </a:solidFill>
                <a:latin typeface="Times New Roman"/>
              </a:rPr>
              <a:t>vrlo niska smrtnost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ispod 18 odojčadi na 1000 živorođene de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Letalitet-Lt-(smrtnost) je broj umrlih na 100 obolelih od iste (te) zarazne bolest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zračunava se po sledećoj formuli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Lt=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x 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U-broj umrli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-broj oboleli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K-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Srednje vrednos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ema načinu određivanja dele se na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osečne vrednosti-aritmetička sredina (prosek), geometrijska sred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 položaju u statističkom nizu-medijana, mo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Aritmetička sredin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ili prosek je srednja vrednost koja se izračunava kada se zbir vrednosti svih članova jednog niza podeli brojem članova tog niz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X=x1+x2+x3+x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x1, x2, x3...xn-vrednosti članova u niz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-ukupan broj članova u niz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Medijan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(centralna ili središna vrednost) je broj koji pokazuje centralnu vrednost u seriji podataka poređanih po veličin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esto medijane izračunava se po sledećem obrascu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e= 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e-medija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-broj članova u niz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pidemiološka statistika predstavlja sastavni deo epidemiološkog r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atistička obrad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ikupljanje podataka (iz prijava obolenja/smrti, iz protokola, iz DM2 obrazaca-zvanična potvrda smrt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ređivanje podataka prema: polu, uzrastu obolelih, zanimanju, mestu stanovanja, prema vrsti zaraznih bolesti..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naliza i ocena dobijenih podatak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66"/>
                </a:solidFill>
                <a:latin typeface="Times New Roman"/>
              </a:rPr>
              <a:t>Apsolutni brojevi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pokazuju samo koliko se puta javila neka bolest u određenom vremenskom periodu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U epidemiološkoj praksi koriste se </a:t>
            </a:r>
            <a:r>
              <a:rPr b="1" lang="sr-Latn-CS" sz="2800" spc="-1" strike="noStrike">
                <a:solidFill>
                  <a:srgbClr val="ffcc66"/>
                </a:solidFill>
                <a:latin typeface="Times New Roman"/>
              </a:rPr>
              <a:t>relativni brojevi.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ajčešće se koriste: morbiditet (obolevanje), mortalitet (umiranje), mortalitet odojčadi (smrtnost odojčadi), letalitet (smrtnost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rednje vrednosti koje se najčešće koriste: aritmetička sredina (prosek), medijana (centralna vrednost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Morbiditet (Mb) je broj obolelih u odnosu na određeni broj stanovnika. Izračunava se po formuli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Mb=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x 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-označava broj oboleli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S-broj stanovni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K-konstanta (1000, 10 000, 100 000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pšti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morbiditet-obolevanje od svih zaraznih bolesti, tj. označava učestalost obolevanja od svih zaraznih bolesti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Specifični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morbiditet–obolevanje od određene grupe zaraznih bolesti, ili od određene zarazne bolesti, obolevanje po uzrastu, polu, zanimanju, mestu stanovanja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6868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Incidencija (I) predstavlja odnos broja novoobolelih osoba i određenog broja stanovnika, tokom određenog vremenskog perio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Izračunava se prema  sledećem obrascu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roj novoobolelih osoba u određenom periodu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x K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Broj stanovnika posmatranog područ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*10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revalencija označava prisustvo određenog patološkog stanja (bolesti) u grupi stanovnik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To je snimak postojeće situacije na određenoj teritoriji i ne izražava rizik obolevanja, jer je njena veličina uslovljena dužinom trajanja bolest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Mortalitet-Mt-(umiranje) je broj umrlih u odnosu na određeni broj stanovnika jednog područja. Izračunava se po sledećoj formul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Mt= 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x 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U-broj umrli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-broj stanovnik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-konstanta (100, 10 000, 100 000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Mortalitet može biti opšti i specifičn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Opšti mortalitet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je broj umrlih od svih bolest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Specifični mortalitet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je broj umrlih od određene grupe bolesti, ili od određene bolest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Mortalitet odojčad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smrtnost odojčadi) predstavlja specifični mortalitet prema uzrastu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Mo=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x 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Ž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Uo-ukupan broj umrle odojčad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Žr-ukupan broj živorođene odojčadi u istom period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K-konstanta (1000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7:45:10Z</dcterms:created>
  <dc:creator>Intel</dc:creator>
  <dc:description/>
  <dc:language>en-US</dc:language>
  <cp:lastModifiedBy>Natasa Rancic</cp:lastModifiedBy>
  <dcterms:modified xsi:type="dcterms:W3CDTF">2015-10-26T07:34:05Z</dcterms:modified>
  <cp:revision>4</cp:revision>
  <dc:subject/>
  <dc:title>OSNOVI EPIDEMIOLOŠKE STATISTIK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