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A15-57A4-4828-9CB2-398FF1B8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2B9-0545-4EEA-AFF9-F5E88B93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9A4-BCDC-4450-A508-728AB9E6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AD1-AC37-46EB-9A4D-F919602E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E5112-16AF-4E23-99F1-85BEE678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9B715-EEA7-440D-9B67-2562A730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8173F-30C6-43CF-9E3C-1C17334F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6B4FC-C9EE-47E8-8C20-E41ECAF0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12C8C-06D5-4E64-B95A-7E76628F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4B9F1-731B-42B2-A263-35E8E4D1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68198-6F30-4E65-AE99-3C5EA808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748-F0C8-4A89-AA0C-2A030FCB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BF221-A909-4D02-9374-24D3ABB2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04B0A-5BE6-45BE-B666-F0876DCA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4C801-B2E2-420F-B60F-C6FF0A05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5FB22-1F98-4901-8CE6-89B306BF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2D15D-5E2B-4D48-A442-6275EF5D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E5A-A4E4-4B70-B7CE-91195403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67A-66D5-479E-96C2-1876D1A8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62D-0F0D-45F8-94E2-6D7DEFCF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DFE-2F5D-406C-AA2F-64978C7F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8D4-DF52-44AC-AF69-1C8CB74F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065-2E0B-461F-BB17-AC12EBE8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B32-6CD9-413F-95B4-C02D9386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D2F9-CE33-4F9A-BACF-B06896AEB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54F2-8430-4564-880C-A8EBFE24F0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cc00"/>
                </a:solidFill>
                <a:uFillTx/>
                <a:latin typeface="Times New Roman"/>
              </a:rPr>
              <a:t>Prijavljivanj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va, osnovna protivepidemijska m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Cilj prijavljivanja je da se upozna epidemiološka služba sa postojanjem neke zarazne bolesti, infekcije ili epidemije, kako bi se omogućilo sprovođenje ostalih protivepidemijskih m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pidemiološka služba stiče uvid u raširenost neke bolesti u stanovništvu, omogućava se praćenje kretanja te bolesti tokom određenog vremena (trend), omogućava se primena postojećih ili čak otkrivanje i primena novih profilaktičkih m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tna prijav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tnom prijavom prijavljuje se sumnja da postoji oboljenje od: kolere, kuge, velikih boginja, žute groznice, virusne hemoragijske groznice, SARS-a, poliomijelitisa, difterije, malih boginja, botulizma, kao i pojave nepoznate zarazne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tno prijavljivanje vrši se odmah po postavljanju sumn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E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di se uvođenjem sistema ranog upozoravanja na teritoriji na kojoj zavod ili institut za javno zdravl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ike boginje, poliomijelitis uzrokovan divljim sojem polio virusa, influenca novog podtipa koja izaziva oboljenje kod ljudi i S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E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događajem se podrazumeva pojava sindroma, bolesti, odnosno stanja ili okolnost koja pogoduje nastanku sindroma, bolesti ili st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jedinačnom prijavom prijavljuje se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oboljenje od zarazne bolesti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smrt od zarazne bolest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smrt od zarazne bolesti koja nije navedena u članu 2. ovog pravilnika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sumnja da postoji oboljenje od zarazne bolesti utvrđene u članu 6. stav 1. ovog pravilnika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izlučivanje uzročnika trbušnog tifusa i paratifusa (Z 22.0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jedinačna prijav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izlučivanje uzročnika drugih salmoneloza, šigeloza, jersinioza, kampilobakterioza (Z 22.1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nosilaštvo antigena virusnog hepatitisa B (HBsAg – Z 22.5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nosilaštvo antitela na virusni hepatitis C (anti HCV – Z 22.9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jedinačna prijav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laboratorijski utvrđen uzročnik ili mikrobiološki marker prisustva uzročnika zarazne bolest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) nosilaštvo parazita – uzročnika malarije (Z 22.8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) nosilaštvo antitela na HIV (anti HIV – Z 2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birna prijav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birnom prijavom prijavljuju se oboljenja slična gripu, akutne respiratorne infekcije i teške akutne respiratorne infek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java epidem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avu epidemije zarazne bolesti popunjava doktor medicine specijalista epidemiologije iz zavoda, odnosno instituta za javno zdravlje koji utvrdi epidemi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java epidem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demija zarazne bolesti prijavljuje se odmah, a najkasnije u roku od tri dana od dana kada je epidemija utvrđ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java epidem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ojavi epidemije zarazne bolesti nastale upotrebom životnih namirnica i vode poreklom iz objekata pod sanitarnim nadzorom, odmah se putem telefona, elektronskom poštom ili na drugi način pogodan za brzo obaveštavanje, obaveštava i organ uprave nadležan za poslove sanitarnog nadzora na teritoriji na kojoj je epidemija utvrđen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rijavljivanje vrši lekar koji je postavio dijagnozu u roku od 24 časa ili odmah, na osnovu kliničke slike i laboratorijske dijagnoz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djava epidem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java epidemije zarazne bolesti vrši se po isteku 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vostrukog najdužeg inkubacionog 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a određenog za zaraznu bolest koja je prouzrokovala epidemi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000"/>
                </a:solidFill>
                <a:latin typeface="Times New Roman"/>
              </a:rPr>
              <a:t>Prijavljivanje masovnih hroničnih nezaraznih boles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Zakon iz 1980. god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ijavljuju se: rak i leukemije, ishemijska bolest srca, šećerna bolest, psihoze, depresija, narkomanija, mišićne distrofije, reumatska groznica, hronična bubrežna insuficijencija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Registr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javu popunjava lekar koji je postavio dijagnoz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javu dostavlja epidemiološkoj službi (Dom zdravlja, zavod za javno zdravlje, Institut za javno zdravlj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jave se unose u registre (elekteronske baze podatak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opulacioni registar za rak Srbi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opulacioni registar za akutni koronarni sindrom Srbi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opulacioni registar za šećernu bolest Srbi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Strategija za prevenciju i kontrolu masovnih hroničnih nezaraznih bolesti Republike Srb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Strategija za prevenciju i kontrolu hroni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nih nezaraznih bolesti (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HNB) Republike Srbije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predstavlja sveobuhvatnu strategiju unapre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enja zdravlja stanovništva Srbije, kako dece tako I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draslih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ktivno je usmerena na grupe i pojedince sa pove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nim rizikom od nastanka hroni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nih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nezaraznih bolesti, kao i na ve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 obolele od HNB kojima su neophodni efikasno lecenje I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dekvatna neg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lavni ciljev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je su zn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jno smanjenje obolevanja i umiranja stanovnika Srbije od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NB, poboljšanje njihovog kvaliteta života i smanjenje nejednakosti u zdravl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jom su obuhv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 kardiovaskularne bolesti, maligni tumori, dijabetes, hron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struktivna bolest pluca i bolesti muskuloskeletnog sistema (bez povreda), jer ove HNB v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ć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enijama cine veliki deo opterecenja bolestima u Srbiji, a imaju zajednicke faktore rizik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ušenje, konzumiranje alkohola, nepravilna ishrana i fizicka neaktivnost) i socijalno-ekonomsk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Za određene bolesti (ehinokokoza, besnilo, bruceloza, antraks, salmoneloza, leptospiroza, trihineloza, tularemija, Q-groznica, sakagija) obaveštava se i veterinarska inspekcij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ffcc00"/>
                </a:solidFill>
                <a:latin typeface="Times New Roman"/>
              </a:rPr>
              <a:t>PUT PRIJ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prijava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→ 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knjiga evidencije zaraznih boles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                     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epidemiološka služba (HES ili epidemiolog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                     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Institut za javno zdravlj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baveznom prijavljivanju u smislu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Zakona o zaštiti stanovništva od zaraznih bolesti (član 24),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podležu sledeći slučajev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obolenj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odnosno smrt od zarazne bolest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smrt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 zarazne bolest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sumn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da postoji obolenje od kolere, kuge, velikih boginja, žute groznice, sars-Avirusnih hemoragičnih groznica, poliomijelitisa, difterije, malih boginja i botulizma, KAO I POJAVA NEPOZNATE ZARAZNE BOLE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epidemi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zarazne bolest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izlučivanje uzročnik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trbušnog tifusa, paratifusa, drugih salmoneloza, šigeloza, jersinioza, kampilobakterioza, kao i nosilaštvo antigena virusnog hepatitisa B, prisustvo antitela na virusni hepatitis C, antitela na HIV i 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nosilaštvo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parazita uzročnika malarij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ogućnost infekcije virusom besnil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hospitalne infekcij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bolnička infekcija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rezistencija bakterija na antimikrobne lekov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laboratorijski utvrđen uzročnik zarazne bolest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akutna flakcidna paraliza (AF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Svaki neuobičajeni događaj koji može ukazivati na upotrebu bioškog agen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AVLJIVANJ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vaka sumnja na pojavu zarazne bolesti koja odgovara definiciji opasnosti po zdravlje iz međunarodnog pravil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eželjena reakcija posle imuniz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avezno prijavljivanje slučajeva oboljenja, odnosno smrti od zarazne bolesti vrši se na sledeći nač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nultom prijav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hitnom prijav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sistemom za rano upozoravanje i hitno reagovanje (u daljem tekstu: ALERT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pojedinačnom prijav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zbirnom prijav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lta prijav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ltom prijavom prijavljuje se odsustvo/prisustvo akutne flakcidne paralize (AFP), malih boginja, kongenitalne rubele, drugih zaraznih bolesti i drugih slučajeva, u skladu sa međunarodnim sanitarnim konvencijama i potvrđenim međunarodnim ugovorima i program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7:27:15Z</dcterms:created>
  <dc:creator>Intel</dc:creator>
  <dc:description/>
  <dc:language>en-US</dc:language>
  <cp:lastModifiedBy>Natasa Rancic</cp:lastModifiedBy>
  <dcterms:modified xsi:type="dcterms:W3CDTF">2017-10-26T07:31:14Z</dcterms:modified>
  <cp:revision>41</cp:revision>
  <dc:subject/>
  <dc:title>MEĐUNARODNI ZDRAVSTVENI PRAVIL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